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12D-BF90-42F7-868A-DC413720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0B4-A9B7-46A4-B131-084EDB7D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51C-63F2-4F49-BBB5-5F0B2716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A9D-AA55-444E-882D-A8AA220F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512-7837-4924-94A7-A5570A2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5C6E-A0FC-4133-A798-AC0E8E6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F3A-7AEF-4177-A748-72D0C4CC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ECE6-085A-4F23-8D20-6E42A0ED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D568-7729-4AAA-9858-70F24A1A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6E8-A3F0-480D-AFDE-278A05BE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61B-ADDD-41CC-8C13-06AEEB3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92B-5977-4290-967A-B68D5954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BADD-45CB-4492-B884-5A0FC33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D7E2-FCEF-495A-B8DF-10BF6C54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4BE4-EF48-4D62-AEC4-226AC61E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A03-4347-472C-ADE7-4090BF00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240-7DC9-4740-8D89-2B8A419E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517C-88FC-4DC9-917C-D09A1EAE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212C-1950-4A67-90F3-E56676FA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A6CA-D3BC-4EF4-96BA-D534FD1F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3F0E-E12A-4DC1-A71D-7F6F714C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EB53-6407-40C7-8427-3C5C7414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327-D6E8-4512-9579-C000C439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5F7D-404B-4BEF-99FD-F6521DCD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393B-559D-437D-8812-B2CFA8A4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3C42-F9BC-40B5-A324-9C51F86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D5F9-106A-4A86-832C-927C284D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9F89-19D9-48B8-8955-F93BD9DC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216A-65E1-42A1-89D8-35A93046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1C47-E713-4C61-9792-C241B3C9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18A8-9EE6-4C56-AAC3-680B4CD0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3134-7CD3-46CD-94BF-01D6750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A99A-BB95-4F0A-9892-786360EC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E16-BC1B-4392-85FF-011677DC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83F8-A2DC-4596-A4DC-B41429ED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9CA8-5BBF-432D-8847-0C911B1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67D8-21F3-4249-A238-B7A38DDE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36A5-EDEB-4F50-A8AF-CC1F1AA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6AAD-CFD5-48C6-B66D-4943DA8C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969C8-1FFF-4FFF-8D9C-FAA854D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F0EE-C724-4627-B9FA-69ECBE26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B63E-8108-4FE8-AA3B-D516D552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513E-4D74-4FFC-96AD-237A519A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5791-8482-437B-8830-C17B0240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C2F-3E28-4792-B81B-EA16CA2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0E71-7170-4523-9481-9790BFC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7889C-3DE7-413D-A487-15A6BD2A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43BD-FC2A-4E0E-853C-90D3785F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ACA8-F18E-4643-8F28-4FCC5F33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740F-3D9F-4D5E-888A-92B8DAF1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1AC5-78F1-4E94-940B-1725E95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58B0-1709-4580-8238-0164C28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3CC2-CEB4-4561-A82A-12FD693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1CB4-E799-415B-806A-55742244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BCC5-1B64-4214-BFF6-399A65F8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496-D3FC-4E57-AF8C-9DF7C21F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5C12-705B-4343-AA74-941BE9DF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A8F-9207-49DA-833D-B99D207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5D9-8983-4569-BF0B-270D686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F7B-51EE-4D73-A44C-111B64D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DB58-8DD5-4BDA-8680-A3CBE8B4B03B}" type="slidenum">
              <a:rPr b="0" lang="it-IT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tango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tango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Connettore 1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2761-4D7B-4DD2-953E-656C4852D4DA}" type="slidenum">
              <a:rPr b="0" lang="it-IT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E619-DDB3-4082-8273-E88000DB0E1D}" type="slidenum">
              <a:rPr b="0" lang="it-IT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9832-6F3C-4C13-A855-9182166382AC}" type="slidenum">
              <a:rPr b="0" lang="it-IT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55C8-C419-4211-B9E3-3CF64EA89DAE}" type="slidenum">
              <a:rPr b="0" lang="it-IT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della-cerva-giovanni-battista_(Dizionario-Biografico)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aniele+crespi+pittore&amp;source=images&amp;cd=&amp;cad=rja&amp;docid=sZZJJP282rPevM&amp;tbnid=5U4GDmlnBeuOzM:&amp;ved=0CAUQjRw&amp;url=http%3A%2F%2Fwww3.varesenews.it%2Farte%2Fil-pittore-che-ando-contro-federico-borromeo-la-grande-monografica-di-daniele-crespi-48065.html&amp;ei=YhmPUZTXE4LdOuz7gcgB&amp;bvm=bv.46340616,d.bGE&amp;psig=AFQjCNGbm4uQyqRQfr4K_xsDjS8HO2pUfw&amp;ust=1368419038458833" TargetMode="External"/><Relationship Id="rId2" Type="http://schemas.openxmlformats.org/officeDocument/2006/relationships/hyperlink" Target="http://www.google.it/url?sa=i&amp;rct=j&amp;q=daniele+crespi+pittore&amp;source=images&amp;cd=&amp;cad=rja&amp;docid=sZZJJP282rPevM&amp;tbnid=5U4GDmlnBeuOzM:&amp;ved=&amp;url=http%3A%2F%2Fwww3.varesenews.it%2Farte%2Fil-pittore-che-ando-contro-federico-borromeo-la-grande-monografica-di-daniele-crespi-48065.html&amp;ei=XhmPUdOlBYnR4QT_sIDIAQ&amp;bvm=bv.46340616,d.bGE&amp;psig=AFQjCNGbm4uQyqRQfr4K_xsDjS8HO2pUfw&amp;ust=1368419038458833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aniele+crespi+pittore&amp;source=images&amp;cd=&amp;cad=rja&amp;docid=a8Mid3pHL6EdUM&amp;tbnid=exyoPez1C7M1ZM:&amp;ved=0CAUQjRw&amp;url=http%3A%2F%2Fit.wikipedia.org%2Fwiki%2FDaniele_Crespi&amp;ei=9hqPUaHfI4bSObnVgdgH&amp;bvm=bv.46340616,d.bGE&amp;psig=AFQjCNEfY9MUF13Y3cM1Nt5wkY51K_QzJQ&amp;ust=1368419315819435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museopoldipezzoli.it/node/434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mortara/" TargetMode="External"/><Relationship Id="rId2" Type="http://schemas.openxmlformats.org/officeDocument/2006/relationships/hyperlink" Target="http://www.treccani.it/enciclopedia/gaudenzio-ferrari/" TargetMode="External"/><Relationship Id="rId3" Type="http://schemas.openxmlformats.org/officeDocument/2006/relationships/hyperlink" Target="http://www.treccani.it/enciclopedia/milano/" TargetMode="External"/><Relationship Id="rId4" Type="http://schemas.openxmlformats.org/officeDocument/2006/relationships/hyperlink" Target="http://www.treccani.it/enciclopedia/vercelli/" TargetMode="External"/><Relationship Id="rId5" Type="http://schemas.openxmlformats.org/officeDocument/2006/relationships/hyperlink" Target="http://www.treccani.it/enciclopedia/salvio-giuliano/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seopoldipezzoli.it/userfiles/3208.jpg" TargetMode="External"/><Relationship Id="rId2" Type="http://schemas.openxmlformats.org/officeDocument/2006/relationships/hyperlink" Target="http://www.museopoldipezzoli.it/userfiles/3208.jp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san+pietro+in+montorio&amp;source=images&amp;cd=&amp;cad=rja&amp;docid=xdZb70LgKcX0HM&amp;tbnid=utl3J7mNSEs9OM:&amp;ved=0CAUQjRw&amp;url=http%3A%2F%2Ftripwow.tripadvisor.com%2Fslideshow-photo%2Fsan-pietro-in-montorio-trastevere-rome-italy.html%3Fsid%3D10852772%26fid%3Dupload_12860246377-tpfil02aw-6660&amp;ei=1eV6UfGLI8SsPIDcgLAC&amp;psig=AFQjCNF-IAoqOtzkkDeLE4zVyxOR_XVCnw&amp;ust=1367095100323164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3.varesenews.it/busto/articolo.php?id=238771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source=images&amp;cd=&amp;cad=rja&amp;docid=Rca2Po19d2wI6M&amp;tbnid=f0F9M-T1pYxCCM:&amp;ved=0CAgQjRwwAA&amp;url=http%3A%2F%2Fwww.panoramio.com%2Fphoto%2F33553516&amp;ei=myWAUYmIKcaHtAb1poGgDg&amp;psig=AFQjCNForccO6xqmTXZ_L3b8IPmt0a0Bsw&amp;ust=1367439131711920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oogle.it/url?sa=i&amp;rct=j&amp;q=GUIDA+TURISTICA&amp;source=images&amp;cd=&amp;cad=rja&amp;docid=cW6u0hQVD6bFDM&amp;tbnid=feDUB0NACvzhWM:&amp;ved=0CAUQjRw&amp;url=http%3A%2F%2Fwww.provincia.genova.it%2Fportal%2Fpage%2FcategoryItem%3FcontentId%3D190994-%253Efe0s2r86w4_content_gmr161q131&amp;ei=Ho6AUbudJonjOre7gIAK&amp;psig=AFQjCNH6KzV_q27iajVBuWjbZWJUSwjE2g&amp;ust=1367465844095622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ilnord.com/2012/01/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omune.bustoarsizio.va.it/musei-e-monumenti/palazzo-cicogna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dWDE6kU7pNZRZM&amp;tbnid=nZw2h3RjIM_-tM:&amp;ved=0CAUQjRw&amp;url=http%3A%2F%2Fen.wikipedia.org%2Fwiki%2FFile%3APinacoteca_di_Brera.jpg&amp;ei=P7aTUfO3CIHwPMqtgIgN&amp;bvm=bv.46471029,d.bGE&amp;psig=AFQjCNE3r53CzqJiIsW_hqNHfIvgCTJUvQ&amp;ust=1368721335623942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NE2ut3Mt9EQckM&amp;tbnid=dXHb6b6Nc7NipM:&amp;ved=0CAUQjRw&amp;url=http%3A%2F%2Fwww.wakeupnews.eu%2Fgrande-brera-verso-privatizzazione%2F&amp;ei=brGTUfH0KMabPdGogagO&amp;bvm=bv.46471029,d.bGE&amp;psig=AFQjCNF6xNBQYq1WoF8aylyhaq9Cs6JzHg&amp;ust=1368720041880065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CA5xZunuyTFYtM&amp;tbnid=ZCkKzPUMMFyqtM:&amp;ved=0CAUQjRw&amp;url=http%3A%2F%2Fwww.artdreamguide.com%2Fitalia%2Fmilano%2Fm_brera%2Fold.htm&amp;ei=rbaTUcyyHojJPcq0gaAC&amp;bvm=bv.46471029,d.bGE&amp;psig=AFQjCNE3r53CzqJiIsW_hqNHfIvgCTJUvQ&amp;ust=1368721335623942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gianfrancomarini.blogspot.com/2012_08_01_archive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UOMINI+D%27ARME+BRAMANTE&amp;source=images&amp;cd=&amp;cad=rja&amp;docid=zWY0gJ380FS1TM&amp;tbnid=iXnp2Pu1qBEyBM:&amp;ved=0CAUQjRw&amp;url=http%3A%2F%2Fwww.geometriefluide.com%2Fpagina.asp%3Fcat%3Dbramante%26prod%3Duominidarme&amp;ei=yLOTUb7xJ4HeOtfqgIAG&amp;bvm=bv.46471029,d.bGE&amp;psig=AFQjCNHqLdNrSf4hXIB_cdI_5gUrWinhqA&amp;ust=1368720696371516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google.it/url?sa=i&amp;rct=j&amp;q=UOMINI+D%27ARME+BRAMANTE&amp;source=images&amp;cd=&amp;cad=rja&amp;docid=zWY0gJ380FS1TM&amp;tbnid=9BwBnZFk4cOEJM:&amp;ved=0CAUQjRw&amp;url=http%3A%2F%2Fwww.geometriefluide.com%2Fpagina.asp%3Fcat%3Dbramante%26prod%3Duominidarme&amp;ei=2rOTUfO0JcjUPKiRgaAH&amp;bvm=bv.46471029,d.bGE&amp;psig=AFQjCNHqLdNrSf4hXIB_cdI_5gUrWinhqA&amp;ust=1368720696371516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olftzw-vNDZ1AM&amp;tbnid=Tn4rx4AqmDV8pM:&amp;ved=0CAUQjRw&amp;url=http%3A%2F%2Fit.wikipedia.org%2Fwiki%2FPinacoteca_di_Brera&amp;ei=J7STUavdK4iXO735gEA&amp;bvm=bv.46471029,d.bGE&amp;psig=AFQjCNF6xNBQYq1WoF8aylyhaq9Cs6JzHg&amp;ust=1368720041880065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Gsn92CaBg4hDGM&amp;tbnid=X3LHK6U_HSQhQM:&amp;ved=0CAUQjRw&amp;url=http%3A%2F%2Fcreativeprojectformedarte.wordpress.com%2F2013%2F03%2F30%2Fandrea-mantegna-compianto-sul-cristo-morto%2Fandrea-mantegna-compianto-sul-cristo-morto-1490-milano-pinacoteca-di-brera-dettaglio1%2F&amp;ei=z7WTUaGEC4nFPcvlgNAK&amp;bvm=bv.46471029,d.bGE&amp;psig=AFQjCNF6xNBQYq1WoF8aylyhaq9Cs6JzHg&amp;ust=1368720041880065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bestourism.com/bests/bestimages?tag=-top-places-in-Mila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muwsfvN7MlV2vM&amp;tbnid=R7D2W9EX-AeZ-M:&amp;ved=0CAUQjRw&amp;url=http%3A%2F%2Fwww.beniculturali.it%2Fmibac%2Fexport%2FMiBAC%2Fsito-MiBAC%2FContenuti%2FMibacUnif%2FComunicati%2Fvisualizza_asset.html_968219704.html&amp;ei=KrWTUbtPidU87-aAoAI&amp;bvm=bv.46471029,d.bGE&amp;psig=AFQjCNF6xNBQYq1WoF8aylyhaq9Cs6JzHg&amp;ust=1368720041880065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opera+di+tiziano+alla+pinacoteca+di+brera&amp;source=images&amp;cd=&amp;cad=rja&amp;docid=DtH3sGG8801qkM&amp;tbnid=ENpURUauzVbOZM:&amp;ved=0CAUQjRw&amp;url=http%3A%2F%2Fblog.best-bookings.com%2Fit%2Fmilano-bramante-pinacoteca-brera%2F&amp;ei=PLuTUdCLLIeXO5-OgfgM&amp;bvm=bv.46471029,d.Yms&amp;psig=AFQjCNHXusYiOFQE1dRAVhYcDQTEjK9j_w&amp;ust=1368722598151639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gYfc114UmKma7M&amp;tbnid=XwL-lH6_pK96hM:&amp;ved=0CAUQjRw&amp;url=http%3A%2F%2Fit.paperblog.com%2Fpinacoteca-di-brera-92076%2F&amp;ei=zbSTUcrOFMewPPaQgKgO&amp;bvm=bv.46471029,d.bGE&amp;psig=AFQjCNF6xNBQYq1WoF8aylyhaq9Cs6JzHg&amp;ust=1368720041880065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ulturaitalia.it/opencms/opencms/system/modules/com.culturaitalia_stage.liberologico/templates/museid/viewItem.jsp?language=it&amp;id=oai%3Aculturaitalia.it%3Amuseiditalia-mus_7450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arteesalute.blogosfere.it/2009/01/caravaggio-torna-a-milano-per-i-duecento-anni-di-brera.htm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daniele+crespi+pinacoteca+brera+ultima+cena&amp;source=images&amp;cd=&amp;cad=rja&amp;docid=AhnKDOVEF2o7OM&amp;tbnid=LVBGDf5D4xl3BM:&amp;ved=0CAUQjRw&amp;url=http%3A%2F%2Fit.wikipedia.org%2Fwiki%2FBarocco_a_Milano&amp;ei=KLyTUabELoTZPKi4gbgF&amp;bvm=bv.46471029,d.bGE&amp;psig=AFQjCNEp0hjl7xIxhJsKvKhZMXadINir6w&amp;ust=1368722853550850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veduta+del+bacino+di+san+marco+dalla+punta+della+dogana&amp;source=images&amp;cd=&amp;cad=rja&amp;docid=QmGIDL6KfJEJdM&amp;tbnid=V6EKI9ictU8xUM:&amp;ved=0CAUQjRw&amp;url=http%3A%2F%2Fwww.flickr.com%2Fphotos%2Fmbell1975%2F7434507516%2F&amp;ei=CeKTUevoBIbEPYOcgeAI&amp;bvm=bv.46471029,d.bGE&amp;psig=AFQjCNHfrmYvO1u5gHRSBI_mNFEpXw2YGQ&amp;ust=1368732535721726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la+pinacoteca+di+brera&amp;source=images&amp;cd=&amp;cad=rja&amp;docid=LlpS4Y36lDtkeM&amp;tbnid=1jBG-WLZoKtTuM:&amp;ved=0CAUQjRw&amp;url=http%3A%2F%2Fwww.messaggerosantantonio.it%2Fmessaggero%2Fpagina_articolo.asp%3FIDX%3D1798IDRX%3D164&amp;ei=VLWTUeHMFcmvO6vJgJAJ&amp;bvm=bv.46471029,d.bGE&amp;psig=AFQjCNF6xNBQYq1WoF8aylyhaq9Cs6JzHg&amp;ust=1368720041880065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rtdreamguide.com/italia/milano/m_brera/otto.htm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te.it/artista/gaudenzio-ferrari-200" TargetMode="External"/><Relationship Id="rId2" Type="http://schemas.openxmlformats.org/officeDocument/2006/relationships/hyperlink" Target="http://www.arte.it/artista/gaudenzio-ferrari-200" TargetMode="External"/><Relationship Id="rId3" Type="http://schemas.openxmlformats.org/officeDocument/2006/relationships/hyperlink" Target="http://www.arte.it/artista/gaudenzio-ferrari-200" TargetMode="External"/><Relationship Id="rId4" Type="http://schemas.openxmlformats.org/officeDocument/2006/relationships/hyperlink" Target="http://www.arte.it/artista/gaudenzio-ferrari-200" TargetMode="External"/><Relationship Id="rId5" Type="http://schemas.openxmlformats.org/officeDocument/2006/relationships/hyperlink" Target="http://www.arte.it/artista/gaudenzio-ferrari-200" TargetMode="External"/><Relationship Id="rId6" Type="http://schemas.openxmlformats.org/officeDocument/2006/relationships/hyperlink" Target="http://www.treccani.it/enciclopedia/tag/gaudenzio-ferrari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reccani.it/enciclopedia/valduggia/" TargetMode="External"/><Relationship Id="rId2" Type="http://schemas.openxmlformats.org/officeDocument/2006/relationships/hyperlink" Target="http://www.treccani.it/enciclopedia/milano/" TargetMode="External"/><Relationship Id="rId3" Type="http://schemas.openxmlformats.org/officeDocument/2006/relationships/hyperlink" Target="http://www.treccani.it/enciclopedia/torino/" TargetMode="External"/><Relationship Id="rId4" Type="http://schemas.openxmlformats.org/officeDocument/2006/relationships/hyperlink" Target="http://www.treccani.it/enciclopedia/varallo/" TargetMode="External"/><Relationship Id="rId5" Type="http://schemas.openxmlformats.org/officeDocument/2006/relationships/hyperlink" Target="http://www.treccani.it/enciclopedia/budapest/" TargetMode="External"/><Relationship Id="rId6" Type="http://schemas.openxmlformats.org/officeDocument/2006/relationships/hyperlink" Target="http://www.treccani.it/enciclopedia/correggio/" TargetMode="External"/><Relationship Id="rId7" Type="http://schemas.openxmlformats.org/officeDocument/2006/relationships/hyperlink" Target="http://www.treccani.it/enciclopedia/sacro-monte/" TargetMode="External"/><Relationship Id="rId8" Type="http://schemas.openxmlformats.org/officeDocument/2006/relationships/hyperlink" Target="http://www.treccani.it/enciclopedia/vercelli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ttangolo 4" descr=""/>
          <p:cNvPicPr/>
          <p:nvPr/>
        </p:nvPicPr>
        <p:blipFill>
          <a:blip r:embed="rId1"/>
          <a:stretch/>
        </p:blipFill>
        <p:spPr>
          <a:xfrm>
            <a:off x="237960" y="669960"/>
            <a:ext cx="7936200" cy="1298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Rettangolo 6" descr=""/>
          <p:cNvPicPr/>
          <p:nvPr/>
        </p:nvPicPr>
        <p:blipFill>
          <a:blip r:embed="rId2"/>
          <a:stretch/>
        </p:blipFill>
        <p:spPr>
          <a:xfrm>
            <a:off x="536400" y="1957320"/>
            <a:ext cx="7375680" cy="2998800"/>
          </a:xfrm>
          <a:prstGeom prst="rect">
            <a:avLst/>
          </a:prstGeom>
          <a:ln w="0">
            <a:noFill/>
          </a:ln>
        </p:spPr>
      </p:pic>
      <p:sp>
        <p:nvSpPr>
          <p:cNvPr id="223" name="CasellaDiTesto 5"/>
          <p:cNvSpPr/>
          <p:nvPr/>
        </p:nvSpPr>
        <p:spPr>
          <a:xfrm>
            <a:off x="2411280" y="5373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ZIONE DEL  16 MAGGIO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CasellaDiTesto 8"/>
          <p:cNvSpPr/>
          <p:nvPr/>
        </p:nvSpPr>
        <p:spPr>
          <a:xfrm>
            <a:off x="324000" y="1052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ovan Battista Della Cerva 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ievo di Gaudenzio Ferr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tangolo 2"/>
          <p:cNvSpPr/>
          <p:nvPr/>
        </p:nvSpPr>
        <p:spPr>
          <a:xfrm>
            <a:off x="250920" y="220500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://www.treccani.it/enciclopedia/della-cerva-giovanni-battista_(Dizionario-Biograf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ttangolo 1"/>
          <p:cNvSpPr/>
          <p:nvPr/>
        </p:nvSpPr>
        <p:spPr>
          <a:xfrm>
            <a:off x="684360" y="4292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baroque.it/arte-barocca/la-pittura-barocca/daniele-crespi-pittore-barocc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i tra i materiali articolo di Varese Focu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sellaDiTesto 2"/>
          <p:cNvSpPr/>
          <p:nvPr/>
        </p:nvSpPr>
        <p:spPr>
          <a:xfrm>
            <a:off x="826920" y="189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niele Crespi (Busto Arsizio 1600-16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tangolo 3"/>
          <p:cNvSpPr/>
          <p:nvPr/>
        </p:nvSpPr>
        <p:spPr>
          <a:xfrm>
            <a:off x="684360" y="3105000"/>
            <a:ext cx="61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ttp://www.popsoarte.it/FixedPages/IT/artisti.php/L/IT/ID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">
            <a:hlinkClick r:id="rId1"/>
          </p:cNvPr>
          <p:cNvSpPr/>
          <p:nvPr/>
        </p:nvSpPr>
        <p:spPr>
          <a:xfrm>
            <a:off x="155520" y="-1828800"/>
            <a:ext cx="1800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>
            <a:hlinkClick r:id="rId2"/>
          </p:cNvPr>
          <p:cNvSpPr/>
          <p:nvPr/>
        </p:nvSpPr>
        <p:spPr>
          <a:xfrm>
            <a:off x="155520" y="-1828800"/>
            <a:ext cx="1800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3.varesenews.it/immagini_articoli/200604/Daniele%20Crespi3.jpg"/>
          <p:cNvPicPr/>
          <p:nvPr/>
        </p:nvPicPr>
        <p:blipFill>
          <a:blip r:embed="rId3"/>
          <a:stretch/>
        </p:blipFill>
        <p:spPr>
          <a:xfrm>
            <a:off x="2916360" y="549360"/>
            <a:ext cx="21603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upload.wikimedia.org/wikipedia/commons/thumb/f/f6/Daniele_Crespi_001.jpg/220px-Daniele_Crespi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8200"/>
            <a:ext cx="3600720" cy="4402080"/>
          </a:xfrm>
          <a:prstGeom prst="rect">
            <a:avLst/>
          </a:prstGeom>
          <a:ln w="0">
            <a:noFill/>
          </a:ln>
        </p:spPr>
      </p:pic>
      <p:sp>
        <p:nvSpPr>
          <p:cNvPr id="252" name="CasellaDiTesto 2"/>
          <p:cNvSpPr/>
          <p:nvPr/>
        </p:nvSpPr>
        <p:spPr>
          <a:xfrm>
            <a:off x="684360" y="50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ietà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Crespi al Prado,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http://t1.gstatic.com/images?q=tbn:ANd9GcTAtCYqTODSUniPFYvvBFW3hI3u-biZN_Ab6W2ngJjhcVFBo2X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1268280"/>
            <a:ext cx="3798720" cy="264636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4"/>
          <p:cNvSpPr/>
          <p:nvPr/>
        </p:nvSpPr>
        <p:spPr>
          <a:xfrm>
            <a:off x="4500720" y="4221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Cresp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digiuno di San Carl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anta Maria della Passione a 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ttangolo 1"/>
          <p:cNvSpPr/>
          <p:nvPr/>
        </p:nvSpPr>
        <p:spPr>
          <a:xfrm>
            <a:off x="395280" y="836640"/>
            <a:ext cx="374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n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Bernardino. - Pittore (n.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Morta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512 circa - m. 1583 circa); discepolo dapprima di Baldassare dei Cadighi, passò poi alla bottega di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Gaudenzio Ferr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1530); nel 1546 era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Mil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La sua attività si divide in tre periodi: nel primo (1534-48) l'influsso gaudenziano è più intens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rtirio di s. Cateri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1546-48, Milano, S. Nazaro Maggiore); nel secondo (1548-58) la sua personalità si delinea meglio, nei colori freddi, chiari e negli atteggiamenti graziosi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Battesim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1554, Milano, Brera); nell'ultimo (pala dell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Graz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1568,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Vercel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S. Giuli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la gamma coloristica si fa più te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sellaDiTesto 2"/>
          <p:cNvSpPr/>
          <p:nvPr/>
        </p:nvSpPr>
        <p:spPr>
          <a:xfrm>
            <a:off x="2556000" y="260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RNARDINO LAN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media.tumblr.com/tumblr_m40n4kuF1T1qggdq1.jpg"/>
          <p:cNvPicPr/>
          <p:nvPr/>
        </p:nvPicPr>
        <p:blipFill>
          <a:blip r:embed="rId6"/>
          <a:stretch/>
        </p:blipFill>
        <p:spPr>
          <a:xfrm>
            <a:off x="4427640" y="765000"/>
            <a:ext cx="35892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1"/>
          <p:cNvSpPr/>
          <p:nvPr/>
        </p:nvSpPr>
        <p:spPr>
          <a:xfrm>
            <a:off x="395280" y="1225440"/>
            <a:ext cx="7561440" cy="55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estauro della Pala della Madonna Assunta di Villa Manzoni </a:t>
            </a:r>
            <a:br>
              <a:rPr sz="1800"/>
            </a:br>
            <a:br>
              <a:rPr sz="18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Musei Civici del comune di Lecco e l’International Inner Wheel Club Lecco, in occasione del ventennale di fondazione dell’International Inner Wheel Club Lecco e nell’ ambito della terza edizione del Premio Internazionale Letterario di Narrativa Alessandro Manzoni, presentano il restauro della Pala della Madonna Assunta conservata nella cappella di Villa Manzoni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’opera è attribuita al pittore milanese Carlo Preda ( 1651-1729), la cui prima attività rivela un’affinità stilistica con i maestri genovesi di fine Seicento, che l’artista aveva conosciuto indirettamente dopo i suoi primi anni di formazione a Milano. Nelle opere successive si riscontra l’adesione al barocchetto di fine Seicento inizio Settecento, caratterizzato dalle forme gentili dei volti, dalle linee sinuose dei panneggi e dalle tonalità chiare dei colori.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restauro, reso possibile grazie all’intervento dell’ International Inner Wheel Club Lecco, è consistito prevalentemente in una pulitura della tela, che ha ripristinato i colori originali, dagli incarnati dei volti, ai panneggi sinuosi del manto della Vergine, alla morbidezza delle nuvole, mettendo in luce i caratteri del barocchetto cui Preda guardava. Oltre al restauro L’Inner Wheel Club Lecco ha finanziato la nuova illuminazione della Pala con faretti speciali dotati di lux idonei alla conservazione dell’opera e nel contempo alla esaltazione del colore e dei toni.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restauro rappresenta quindi un evento significativo per la cultura italiana, non solo per la grande qualità dell’opera, ma anche per l’influenza che esercitò sul più importante romanzo della Letteratura italiana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el 1950 infatti Mina Gregori pubblicò su “ Paragone” un saggio memorabile “ I ricordi figurativi di Alessandro Manzoni” che ebbe uno straordinario impatto sulla cultura italiana, avviando il recupero della grande pittura lombarda del Seicento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’influenza dei pittori seicenteschi, visti da bambino, sull’opera manzoniana divenne un assioma alla base di tante importanti mostre, curate dalla Gregori stessa e da Giovanni Testori. </a:t>
            </a:r>
            <a:br>
              <a:rPr sz="1200"/>
            </a:b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a Pala della Madonna Assunta nella Cappella di Villa Manzoni, è sicuramente il ricordo figurativo più preciso ed intenso dell’infanzia dello scrittore che per tanti anni la vedeva, ogni giorno, nella sua casa paterna del Caleotto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asellaDiTesto 2"/>
          <p:cNvSpPr/>
          <p:nvPr/>
        </p:nvSpPr>
        <p:spPr>
          <a:xfrm>
            <a:off x="1763640" y="40464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LO PREDA (Milano 1651-17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http://www.museilecco.org/immagini/PalaAssunta.jpg"/>
          <p:cNvPicPr/>
          <p:nvPr/>
        </p:nvPicPr>
        <p:blipFill>
          <a:blip r:embed="rId1"/>
          <a:stretch/>
        </p:blipFill>
        <p:spPr>
          <a:xfrm>
            <a:off x="250920" y="281160"/>
            <a:ext cx="4105080" cy="6464160"/>
          </a:xfrm>
          <a:prstGeom prst="rect">
            <a:avLst/>
          </a:prstGeom>
          <a:ln w="0">
            <a:noFill/>
          </a:ln>
        </p:spPr>
      </p:pic>
      <p:sp>
        <p:nvSpPr>
          <p:cNvPr id="261" name="CasellaDiTesto 2"/>
          <p:cNvSpPr/>
          <p:nvPr/>
        </p:nvSpPr>
        <p:spPr>
          <a:xfrm>
            <a:off x="4716360" y="1413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ssunta di Villa Manzoni di Carlo P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ttangolo 1"/>
          <p:cNvSpPr/>
          <p:nvPr/>
        </p:nvSpPr>
        <p:spPr>
          <a:xfrm>
            <a:off x="324000" y="476280"/>
            <a:ext cx="777708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ietro Antonio Magatti lavorò per gran parte della sua vita a Varese, sua città d’origine, e in Lombardia. La sua opera appare fortemente influenzata dai grandi pittori lombardi del Seicento e questo ritratto rimanda in maniera evidente al </a:t>
            </a:r>
            <a:r>
              <a:rPr b="0" lang="it-IT" sz="12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Digiuno di San Carlo</a:t>
            </a:r>
            <a:r>
              <a:rPr b="0" lang="it-IT" sz="12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 di Daniele Crespi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(1598-1630), nella chiesa di Santa Maria della Passione a Milano. 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quadro del Crespi San Carlo è seduto ad un tavolo in abito cardinalizio e sta leggendo un libro mentre consuma un pasto costituito esclusivamente da pane e acqua. Di fronte, appoggiato su un altro tavolo, si scorge un crocifisso. I digiuni e le veglie hanno reso la sua carnagione cerea e malaticcia, ma il viso non esprime tanto fatica e sofferenza, quanto compostezza e concentrazione. Magatti si ispira alla posa di Daniele Crespi con San Carlo che appoggia la testa su un fazzoletto bianco: un dettaglio inventato dal Crespi per descrivere efficacemente la stanchezza fisica contrapposta all’incrollabile volontà del santo. 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gatti rappresenta l’arcivescovo nella stessa posizione, ma da un punto di vista molto più ravvicinato e con un taglio di luce molto teatrale. Sul tavolo, al posto del libro, c’è un teschio, il classic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emento mori.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bito è gonfio e vaporoso, e la manica in vista è arricchita da un pizzo elegante. La carnagione ha assunto un tono verdastro; il viso è scavato, tanto che sembra di intravedere il teschio sotto la pelle; la mano ossuta in primo piano appare scossa da forte tensione. Della compostezza del San Carlo di Daniele Crespi non c’è più traccia; nella rappresentazione del Magatti il santo è travolto da violenta emozione mentre contempla il crocifisso fuori campo. 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sintonia con la sensibilità del nuovo secolo la pennellata più leggera e morbida del Magatti è riuscita a fornire una versione al contempo più patetica e mondana dell’immagine di San Carlo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sellaDiTesto 2"/>
          <p:cNvSpPr/>
          <p:nvPr/>
        </p:nvSpPr>
        <p:spPr>
          <a:xfrm>
            <a:off x="169236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ETRO ANTONIO MAGATTI (Varese, 1691-17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images.travelpod.com/tripwow/photos/ta-00a5-99a4-5cc4/san-pietro-in-montorio-trastevere-rome-italy+1152_12860246377-tpfil02aw-66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549360"/>
            <a:ext cx="6120000" cy="4589280"/>
          </a:xfrm>
          <a:prstGeom prst="rect">
            <a:avLst/>
          </a:prstGeom>
          <a:ln w="0">
            <a:noFill/>
          </a:ln>
        </p:spPr>
      </p:pic>
      <p:sp>
        <p:nvSpPr>
          <p:cNvPr id="265" name="CasellaDiTesto 2"/>
          <p:cNvSpPr/>
          <p:nvPr/>
        </p:nvSpPr>
        <p:spPr>
          <a:xfrm>
            <a:off x="1332000" y="5661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mante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n Pietro in Montor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1502, 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://www3.varesenews.it/immagini_articoli/200704/PALAZZO_MARLIANI_CICOG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7054920" cy="4815000"/>
          </a:xfrm>
          <a:prstGeom prst="rect">
            <a:avLst/>
          </a:prstGeom>
          <a:ln w="0">
            <a:noFill/>
          </a:ln>
        </p:spPr>
      </p:pic>
      <p:sp>
        <p:nvSpPr>
          <p:cNvPr id="267" name="CasellaDiTesto 2"/>
          <p:cNvSpPr/>
          <p:nvPr/>
        </p:nvSpPr>
        <p:spPr>
          <a:xfrm>
            <a:off x="611280" y="33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lazzo Marliani Cic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 ‘500 alla metà del ‘7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de delle Civiche Raccolte d’arte e della biblioteca comu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mw2.google.com/mw-panoramio/photos/medium/3355351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7694640" cy="5770800"/>
          </a:xfrm>
          <a:prstGeom prst="rect">
            <a:avLst/>
          </a:prstGeom>
          <a:ln w="0">
            <a:noFill/>
          </a:ln>
        </p:spPr>
      </p:pic>
      <p:sp>
        <p:nvSpPr>
          <p:cNvPr id="269" name="CasellaDiTesto 2"/>
          <p:cNvSpPr/>
          <p:nvPr/>
        </p:nvSpPr>
        <p:spPr>
          <a:xfrm>
            <a:off x="3203640" y="63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tlile a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ttangolo 3" descr=""/>
          <p:cNvPicPr/>
          <p:nvPr/>
        </p:nvPicPr>
        <p:blipFill>
          <a:blip r:embed="rId1"/>
          <a:stretch/>
        </p:blipFill>
        <p:spPr>
          <a:xfrm>
            <a:off x="536400" y="42840"/>
            <a:ext cx="691848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Rettangolo 7" descr=""/>
          <p:cNvPicPr/>
          <p:nvPr/>
        </p:nvPicPr>
        <p:blipFill>
          <a:blip r:embed="rId2"/>
          <a:stretch/>
        </p:blipFill>
        <p:spPr>
          <a:xfrm>
            <a:off x="957240" y="1463760"/>
            <a:ext cx="6772320" cy="2558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provincia.genova.it/servlets/resources?resourceId=9705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371760"/>
            <a:ext cx="2631960" cy="3152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www.ilnord.com/wp-content/uploads/2012/01/Guida-turistic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4008600"/>
            <a:ext cx="2448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CasellaDiTesto 2"/>
          <p:cNvSpPr/>
          <p:nvPr/>
        </p:nvSpPr>
        <p:spPr>
          <a:xfrm>
            <a:off x="1547640" y="1484280"/>
            <a:ext cx="259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asellaDiTesto 3"/>
          <p:cNvSpPr/>
          <p:nvPr/>
        </p:nvSpPr>
        <p:spPr>
          <a:xfrm>
            <a:off x="1700280" y="1636560"/>
            <a:ext cx="2592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tangolo 6"/>
          <p:cNvSpPr/>
          <p:nvPr/>
        </p:nvSpPr>
        <p:spPr>
          <a:xfrm>
            <a:off x="250920" y="1989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://www.comune.bustoarsizio.va.it/musei-e-monumenti/palazzo-cic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ttangolo 2" descr=""/>
          <p:cNvPicPr/>
          <p:nvPr/>
        </p:nvPicPr>
        <p:blipFill>
          <a:blip r:embed="rId1"/>
          <a:stretch/>
        </p:blipFill>
        <p:spPr>
          <a:xfrm>
            <a:off x="317520" y="1809720"/>
            <a:ext cx="7577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t2.gstatic.com/images?q=tbn:ANd9GcRs7a_lGn4g_17Qp6sKYTv42hRr2jgNXmQNUCNX2z0mKL-GvGYv7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75135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www.wakeupnews.eu/wp-content/uploads/2013/01/Brera-Mila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748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La piantina della Pinacoteca"/>
          <p:cNvPicPr/>
          <p:nvPr/>
        </p:nvPicPr>
        <p:blipFill>
          <a:blip r:embed="rId1"/>
          <a:stretch/>
        </p:blipFill>
        <p:spPr>
          <a:xfrm>
            <a:off x="971640" y="549360"/>
            <a:ext cx="6642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www.artdreamguide.com/italia/milano/m_brera/img/brera_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7056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2.bp.blogspot.com/-XtjMBAPTwgQ/UDRU1EnYM-I/AAAAAAAAGQE/9DtZDsrP_rk/s1600/bramante_eraclito_democri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6697440" cy="5111640"/>
          </a:xfrm>
          <a:prstGeom prst="rect">
            <a:avLst/>
          </a:prstGeom>
          <a:ln w="0">
            <a:noFill/>
          </a:ln>
        </p:spPr>
      </p:pic>
      <p:sp>
        <p:nvSpPr>
          <p:cNvPr id="279" name="CasellaDiTesto 2"/>
          <p:cNvSpPr/>
          <p:nvPr/>
        </p:nvSpPr>
        <p:spPr>
          <a:xfrm>
            <a:off x="1547640" y="58770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Bramante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Uomini illust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affreschi stac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www.geometriefluide.com/foto/PIC174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635280" cy="331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www.geometriefluide.com/foto/PIC173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3357720"/>
            <a:ext cx="35593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upload.wikimedia.org/wikipedia/commons/thumb/3/3e/Mantegna_Andrea_Dead_Christ.jpg/220px-Mantegna_Andrea_Dead_Chri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620640"/>
            <a:ext cx="6104160" cy="5159520"/>
          </a:xfrm>
          <a:prstGeom prst="rect">
            <a:avLst/>
          </a:prstGeom>
          <a:ln w="0">
            <a:noFill/>
          </a:ln>
        </p:spPr>
      </p:pic>
      <p:sp>
        <p:nvSpPr>
          <p:cNvPr id="283" name="CasellaDiTesto 2"/>
          <p:cNvSpPr/>
          <p:nvPr/>
        </p:nvSpPr>
        <p:spPr>
          <a:xfrm>
            <a:off x="1332000" y="6165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drea Mantegna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risto mort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t3.gstatic.com/images?q=tbn:ANd9GcR6f0jxBFMJyB_F-lRDPPwia0-oIWI0x_bboXkB7GBsF4NvhX5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404640"/>
            <a:ext cx="41007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611280" y="549360"/>
          <a:ext cx="6912000" cy="547200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547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i era Grundtvi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koli Frederik Severin Grundtvig (1783-1872), religioso danese e scrittore, è riconosciuto come il padr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deologico dell'istruzione popolare nell'età adulta. Il suo pensiero, la sua 'illuminazione mirò a dare ad ogni individuo, a prescindere dalla sua età o formazione culturale, l'opportunità di apprendere lungo tutta la durata della vita.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li obiettivi di questo apprendimento sono duplici, da una parte la realizzazione personale dell'individuo e dall'altra l'assicurare la partecipazione attiva di ogni cittadino nella vita pubbl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e metodo di apprendimento, Grundtvig prediligeva l'uso del dialogo e della trasmissione verbale della cultura. Egli credeva fermamente che l'insegnamento dovesse essere fondato sulle esperienze di vita reale e non su questioni astratte.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Queste idee portarono alla fondazione della Scuola Superiore Nordica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olare. Questi istituti di educazione "non-formale per adulti sono oggi componenti consolidate del sistema educativo dei paesi scandinavi e sono altresì diffusi anche in altre nazion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ttp://www.bestourism.com/img/items/big/941/Pinacoteca-di-Brera_Pinacoteca-di-Brera-artwork_355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89000"/>
            <a:ext cx="6481800" cy="6021360"/>
          </a:xfrm>
          <a:prstGeom prst="rect">
            <a:avLst/>
          </a:prstGeom>
          <a:ln w="0">
            <a:noFill/>
          </a:ln>
        </p:spPr>
      </p:pic>
      <p:sp>
        <p:nvSpPr>
          <p:cNvPr id="286" name="CasellaDiTesto 3"/>
          <p:cNvSpPr/>
          <p:nvPr/>
        </p:nvSpPr>
        <p:spPr>
          <a:xfrm>
            <a:off x="1547640" y="6211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ni Bellin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ie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www.beniculturali.it/mibac/multimedia/MiBAC/images/upload/med/22/1291626660703_7x3_brera_madonna_ARTE_de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7095960" cy="4073400"/>
          </a:xfrm>
          <a:prstGeom prst="rect">
            <a:avLst/>
          </a:prstGeom>
          <a:ln w="0">
            <a:noFill/>
          </a:ln>
        </p:spPr>
      </p:pic>
      <p:sp>
        <p:nvSpPr>
          <p:cNvPr id="288" name="CasellaDiTesto 2"/>
          <p:cNvSpPr/>
          <p:nvPr/>
        </p:nvSpPr>
        <p:spPr>
          <a:xfrm>
            <a:off x="1476360" y="5373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ni Bellin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adonna col bamb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avola trasportat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http://blog.best-bookings.com/it/files/2012/05/250px-Bramante-cristo-alla-colon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4254480" cy="6500880"/>
          </a:xfrm>
          <a:prstGeom prst="rect">
            <a:avLst/>
          </a:prstGeom>
          <a:ln w="0">
            <a:noFill/>
          </a:ln>
        </p:spPr>
      </p:pic>
      <p:sp>
        <p:nvSpPr>
          <p:cNvPr id="290" name="CasellaDiTesto 2"/>
          <p:cNvSpPr/>
          <p:nvPr/>
        </p:nvSpPr>
        <p:spPr>
          <a:xfrm>
            <a:off x="4788000" y="1700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nato Bram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risto alla colon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lio e tempera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://m2.paperblog.com/i/9/92076/pinacoteca-di-brera-L-2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4319640" cy="6116760"/>
          </a:xfrm>
          <a:prstGeom prst="rect">
            <a:avLst/>
          </a:prstGeom>
          <a:ln w="0">
            <a:noFill/>
          </a:ln>
        </p:spPr>
      </p:pic>
      <p:sp>
        <p:nvSpPr>
          <p:cNvPr id="292" name="CasellaDiTesto 2"/>
          <p:cNvSpPr/>
          <p:nvPr/>
        </p:nvSpPr>
        <p:spPr>
          <a:xfrm>
            <a:off x="4859280" y="198900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ero della Francesca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cra Convers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era e olio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http://151.12.58.237:8080/DBUnicoMedia/repository/images/09-11-2011/b7f116fe818cbaa7608c4a16fa6d1c8912b59be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4105080" cy="5948280"/>
          </a:xfrm>
          <a:prstGeom prst="rect">
            <a:avLst/>
          </a:prstGeom>
          <a:ln w="0">
            <a:noFill/>
          </a:ln>
        </p:spPr>
      </p:pic>
      <p:sp>
        <p:nvSpPr>
          <p:cNvPr id="294" name="CasellaDiTesto 2"/>
          <p:cNvSpPr/>
          <p:nvPr/>
        </p:nvSpPr>
        <p:spPr>
          <a:xfrm>
            <a:off x="5148360" y="2205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ffael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 sposalizio della Vergine, olio su tav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cdn.blogosfere.it/arteesalute/images/CenainEmmaus_Lond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7561440" cy="5670720"/>
          </a:xfrm>
          <a:prstGeom prst="rect">
            <a:avLst/>
          </a:prstGeom>
          <a:ln w="0">
            <a:noFill/>
          </a:ln>
        </p:spPr>
      </p:pic>
      <p:sp>
        <p:nvSpPr>
          <p:cNvPr id="296" name="CasellaDiTesto 2"/>
          <p:cNvSpPr/>
          <p:nvPr/>
        </p:nvSpPr>
        <p:spPr>
          <a:xfrm>
            <a:off x="1476360" y="6237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avaggi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ena in Emmau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upload.wikimedia.org/wikipedia/commons/thumb/5/59/Daniele_Crespi_-_The_Last_Supper_-_WGA5745.jpg/190px-Daniele_Crespi_-_The_Last_Supper_-_WGA57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3961080" cy="6045120"/>
          </a:xfrm>
          <a:prstGeom prst="rect">
            <a:avLst/>
          </a:prstGeom>
          <a:ln w="0">
            <a:noFill/>
          </a:ln>
        </p:spPr>
      </p:pic>
      <p:sp>
        <p:nvSpPr>
          <p:cNvPr id="298" name="CasellaDiTesto 2"/>
          <p:cNvSpPr/>
          <p:nvPr/>
        </p:nvSpPr>
        <p:spPr>
          <a:xfrm>
            <a:off x="4643280" y="1197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niele Cresp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enac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t2.gstatic.com/images?q=tbn:ANd9GcSDUeHx714cZ0e07rVBOZyzczuK23js3C4LGjtVYf4X6CiE9J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765000"/>
            <a:ext cx="6637320" cy="4908600"/>
          </a:xfrm>
          <a:prstGeom prst="rect">
            <a:avLst/>
          </a:prstGeom>
          <a:ln w="0">
            <a:noFill/>
          </a:ln>
        </p:spPr>
      </p:pic>
      <p:sp>
        <p:nvSpPr>
          <p:cNvPr id="300" name="CasellaDiTesto 2"/>
          <p:cNvSpPr/>
          <p:nvPr/>
        </p:nvSpPr>
        <p:spPr>
          <a:xfrm>
            <a:off x="684360" y="587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alett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duta del bacino di San Marco dalla punta della Dogan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http://www.santantonio.org/messaggero/upload/foto/0309_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684680" cy="5904000"/>
          </a:xfrm>
          <a:prstGeom prst="rect">
            <a:avLst/>
          </a:prstGeom>
          <a:ln w="0">
            <a:noFill/>
          </a:ln>
        </p:spPr>
      </p:pic>
      <p:sp>
        <p:nvSpPr>
          <p:cNvPr id="302" name="CasellaDiTesto 2"/>
          <p:cNvSpPr/>
          <p:nvPr/>
        </p:nvSpPr>
        <p:spPr>
          <a:xfrm flipH="1" flipV="1" rot="10800000">
            <a:off x="5219640" y="19317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ncesco Hayez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bac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http://www.artdreamguide.com/_arti/pellizza/img/5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89000"/>
            <a:ext cx="5253120" cy="2982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ttp://t3.gstatic.com/images?q=tbn:ANd9GcTP7KJzB9QCfl8yFu7M1g6X8BAv5PuBqNgHfddpRENRGKHAQDqx"/>
          <p:cNvPicPr/>
          <p:nvPr/>
        </p:nvPicPr>
        <p:blipFill>
          <a:blip r:embed="rId3"/>
          <a:stretch/>
        </p:blipFill>
        <p:spPr>
          <a:xfrm>
            <a:off x="250920" y="3500280"/>
            <a:ext cx="5807160" cy="3044880"/>
          </a:xfrm>
          <a:prstGeom prst="rect">
            <a:avLst/>
          </a:prstGeom>
          <a:ln w="0">
            <a:noFill/>
          </a:ln>
        </p:spPr>
      </p:pic>
      <p:sp>
        <p:nvSpPr>
          <p:cNvPr id="305" name="CasellaDiTesto 3"/>
          <p:cNvSpPr/>
          <p:nvPr/>
        </p:nvSpPr>
        <p:spPr>
          <a:xfrm>
            <a:off x="0" y="1125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lizza da Volpedo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ium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asellaDiTesto 4"/>
          <p:cNvSpPr/>
          <p:nvPr/>
        </p:nvSpPr>
        <p:spPr>
          <a:xfrm>
            <a:off x="0" y="2852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l quarto S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Museo del Novec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olo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8186760" cy="66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9280" y="981000"/>
            <a:ext cx="7239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1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Introduco l’oggett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che cosa è ? (tipo, genere), come è fatta? (materiali, tecniche), da chi è stata fatta? quando? Perché è lì ? (Storia della trasmission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2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nalisi del soggett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dati dell’esperienza comune, che cosa si vede?, che cosa è raffigurato?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ICONOGRAF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3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nalisi della composizione e delle forme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come è raffigurato? (discorso più critic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4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Analisi storica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per chi è stata fatta?dove? In quale ottica e a che scopo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5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Ricomposizione dei dati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: che significato ha? Che valore ha? (storia della cultura )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ICONOLOG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://www.artdreamguide.com/_arti/boccioni/img/534.jpg"/>
          <p:cNvPicPr/>
          <p:nvPr/>
        </p:nvPicPr>
        <p:blipFill>
          <a:blip r:embed="rId1"/>
          <a:stretch/>
        </p:blipFill>
        <p:spPr>
          <a:xfrm>
            <a:off x="184320" y="272880"/>
            <a:ext cx="5035320" cy="6180480"/>
          </a:xfrm>
          <a:prstGeom prst="rect">
            <a:avLst/>
          </a:prstGeom>
          <a:ln w="0">
            <a:noFill/>
          </a:ln>
        </p:spPr>
      </p:pic>
      <p:sp>
        <p:nvSpPr>
          <p:cNvPr id="308" name="CasellaDiTesto 2"/>
          <p:cNvSpPr/>
          <p:nvPr/>
        </p:nvSpPr>
        <p:spPr>
          <a:xfrm>
            <a:off x="5508720" y="198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. Boccioni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issa in Galleri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lio su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olo 1" descr=""/>
          <p:cNvPicPr/>
          <p:nvPr/>
        </p:nvPicPr>
        <p:blipFill>
          <a:blip r:embed="rId1"/>
          <a:stretch/>
        </p:blipFill>
        <p:spPr>
          <a:xfrm>
            <a:off x="285840" y="298440"/>
            <a:ext cx="7632720" cy="560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50560" y="1052280"/>
            <a:ext cx="759924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ICONOGRAFIA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:disciplina che studia le immagini con particolare attenzione ai diversi modi in cui i soggetti vengono rappresentati nella storia delle arti figurative. Complesso delle rappresentazioni figurative relative a un determinato personaggi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ICONOLOGIA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: analisi che agisce a un livello più profondo cioè studia il significato delle immagini e dei diversi simboli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olo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Gaudenzio Ferrari (Valduggia,1475/80- 1546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Giovan Battista della Cerva (Novara?1515-15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Bernardino Lanino (Mortara, 1512-1583 c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aniele Crespi (Busto Arsizio, 1600 – 163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Biagio Bellotti (Busto A, 1714-1789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ietro Antonio Magatti  (Varese, 1691-1767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http://www.to.chiesadimilano.it/or/ADMI/esy/objects/images/156872.jpeg"/>
          <p:cNvPicPr/>
          <p:nvPr/>
        </p:nvPicPr>
        <p:blipFill>
          <a:blip r:embed="rId1"/>
          <a:stretch/>
        </p:blipFill>
        <p:spPr>
          <a:xfrm>
            <a:off x="250920" y="189000"/>
            <a:ext cx="4065480" cy="6483240"/>
          </a:xfrm>
          <a:prstGeom prst="rect">
            <a:avLst/>
          </a:prstGeom>
          <a:ln w="0">
            <a:noFill/>
          </a:ln>
        </p:spPr>
      </p:pic>
      <p:sp>
        <p:nvSpPr>
          <p:cNvPr id="236" name="CasellaDiTesto 4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udenzio Ferr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sellaDiTesto 6"/>
          <p:cNvSpPr/>
          <p:nvPr/>
        </p:nvSpPr>
        <p:spPr>
          <a:xfrm>
            <a:off x="4788000" y="220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olittico dell’Ass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6"/>
          <p:cNvSpPr/>
          <p:nvPr/>
        </p:nvSpPr>
        <p:spPr>
          <a:xfrm>
            <a:off x="4788000" y="35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ta Maria di Piazza Busto Ars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ttangolo 1"/>
          <p:cNvSpPr/>
          <p:nvPr/>
        </p:nvSpPr>
        <p:spPr>
          <a:xfrm>
            <a:off x="684360" y="981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www.arte.it/artista/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gaudenzio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-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ferrari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ttangolo 2"/>
          <p:cNvSpPr/>
          <p:nvPr/>
        </p:nvSpPr>
        <p:spPr>
          <a:xfrm>
            <a:off x="755640" y="1989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http://www.treccani.it/enciclopedia/tag/gaudenzio-ferr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sellaDiTesto 3"/>
          <p:cNvSpPr/>
          <p:nvPr/>
        </p:nvSpPr>
        <p:spPr>
          <a:xfrm>
            <a:off x="900000" y="35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di anche file in Pdf di Varese focus sull’attività varesina del Ferr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39280" y="980640"/>
            <a:ext cx="723924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Ferrar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Gaudenzio. - Pittore (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Valduggi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1480 circa -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Milan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1546); a Milano fu, secondo G. P. Lomazzo, presso Stefano Scotto; ma fin dalle tavolette della pinacoteca di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Torin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Padre Etern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e scene della vita dei santi Anna e Gioacchino) il F. appare dominato dall'arte del Bramantino, che egli traduce in un linearismo, di gusto ancor gotico, accordato a effetti coloristici e decorativi (affreschi nella chiesa di S. Maria delle Grazie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Varall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1507-13). In altre opere risentì del Perugino, di Leonardo (specialmente nella </a:t>
            </a:r>
            <a:r>
              <a:rPr b="0" i="1" lang="it-IT" sz="1800" spc="-1" strike="noStrike">
                <a:solidFill>
                  <a:srgbClr val="000000"/>
                </a:solidFill>
                <a:latin typeface="Trebuchet MS"/>
              </a:rPr>
              <a:t>Pietà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ora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Budapest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), e del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Correggio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. Il suo linearismo, dapprima incisivo, descrive forme più ampie e bizzarre nella cappella del Crocifisso (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Sacro Monte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di Varallo, 1523). Negli affreschi in S. Cristoforo a </a:t>
            </a:r>
            <a:r>
              <a:rPr b="0" lang="it-IT" sz="18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Vercelli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(1532-34), suo capolavoro, il colore appare disteso in larghe superfici cromatiche, indicando il suo interesse per la pittura veneta. I suoi ultimi lavori, del periodo milanese, sono più deboli, salvo gli affreschi già in S. Maria della Pace, ora a Brer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3:07:40Z</dcterms:created>
  <dc:creator>simone</dc:creator>
  <dc:description/>
  <dc:language>en-US</dc:language>
  <cp:lastModifiedBy>isabella.cuccovillo</cp:lastModifiedBy>
  <dcterms:modified xsi:type="dcterms:W3CDTF">2013-05-16T17:21:17Z</dcterms:modified>
  <cp:revision>98</cp:revision>
  <dc:subject/>
  <dc:title>Breve profilo storico della città di Busto Arsizio</dc:title>
</cp:coreProperties>
</file>